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2FA-32DA-47BA-81E0-BF43A1F4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847-7BC8-469E-8140-67CA19FD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0B8-D6D6-44EA-B22D-373760D7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E78-3FEF-4D98-A87E-386652C7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B63-E3CE-4568-AC6E-B2695FD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8F6D-0D2F-4DE8-96E5-70B06B2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38CE-35BF-4500-B59B-E68CC74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8A4-52D9-4F4C-8A12-BD431EF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7F2E-B601-4C20-A919-1BD387F0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A60A-85FB-48C6-83AB-2090F64A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BCC-6607-492F-8AAB-8883E40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6BA-CD64-42C5-9D31-A2C7AA9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AAF-2AC5-4B76-82D9-59D5405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3AA3-8AB4-4BBE-AC00-94CBA70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946F-8CF6-4B0D-A8F7-623CB88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4A25-2BE6-4FD1-ABBA-0C8E7AA1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1BB0-30C6-4238-A23F-2B2FEF2B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FDA5F-7747-4D38-8924-71E95DA2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FC568-285F-45D0-862A-DC61888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A1D01-3E1E-43FF-8308-D5E792C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D4C29-6267-40EA-903D-BCD25AEF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E52EB-7D2B-4237-9E74-C794B56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707-7E1C-4425-9C2A-C9974150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65BAC-A645-4A0A-8151-86DDBBB1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53C73-4F2B-4529-B3A1-B1ECBC00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696F9-6F63-4265-8808-E063FAC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E031A-1902-4B41-9EBB-8B21F22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DC998-1AA8-4DC8-9CAB-F660211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4EF8F-FBC1-492B-B4E1-9D5C40B9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43107-74F4-4EFF-BC0D-A563586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3234-1C83-4AD4-A228-AA91D2AB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81C6-C17D-4045-9B1B-0E011FA1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4215-A6C5-4E2E-A811-DEE1BF12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2A2-14E5-4ACC-BC5B-89F5797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6EE2-ADD2-4788-93F1-E12A132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1FC1-14CC-4339-B967-19BD5FEF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FB07-D141-488D-942C-2795140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0C2C-4415-4FDF-B20F-5C7FF1E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FEDF-5E70-455A-A933-4BBBDBD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EE44-7E62-4AB6-B783-6FB563E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1775-AE1B-4694-A59F-BF9B0D6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C6D0-7399-4F54-BF02-8A768B28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013D-77E8-42DE-A72E-63CD4534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D5F47-827A-4A4D-BD58-40D14068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3CD-C981-430E-97F2-299FC79C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8C7D4-3284-48A1-ACF7-988EE4C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FD147-1B1D-41A7-A6D2-E65BAB77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D075C-44C1-4A14-9D2B-5837F7D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7E909-02C2-4D9C-A4B2-2EB8021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2860D-9E16-43AB-9092-A5F3FAD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51044-5C6A-4A8B-9894-386B3B0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A5B6A-922A-4396-BD81-F0FBEE3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B082A-DCAF-4907-9929-F460561E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D571B-DBF1-4B3D-BB7A-0FC95C76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0AEA6-99AE-4164-B6D9-F09C21DF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6FC-D064-440C-AD51-A70B37F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4037B-29A3-438D-8742-4FF57834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B37FB-9BDA-468D-97FA-F76047CF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8FDEC-3966-4CE7-B71A-AEFFCC4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74294-EF71-40C6-860E-B975B91D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22AEA-9502-4609-B11C-7EB6580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6090F-D8A1-4D99-9294-73303538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4C444-8662-464D-8E92-C7D0C998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57B15-EAC2-4980-A1A4-3C5AD1E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F4A04-B2FE-4D86-A671-C615270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90667-4DBD-4ED3-A890-9672570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E0B-6322-4AE1-B323-D67305C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FC19C-DF6F-4F7E-A41C-FF459F6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67443-7EC5-4323-BDC8-F6792480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BBCD4-E0F3-470C-B551-EF3CE2FB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5733D-52DD-4FA8-BB4C-511F8E83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8CB9D-3DA3-4356-BDCA-C759B3FE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13F34-2623-4936-8F60-22C4695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AC3D0-C1DE-4781-B045-426ECAF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B8632-5B12-4233-A105-F9E15CC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9F3FE-AB50-4F08-9C87-3E40AC0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BD156-7251-4EE3-83B6-A1CF959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340-AE9E-438A-9FF3-289B3A5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ECB81-9BD1-48EC-BE52-E0F9108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4731E-45C0-4EDF-9ADE-DBD5CDF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FED1C-915C-4A63-A757-04A2E77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C34A4-7EED-4BD2-8226-17C7E406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D38E0-FC5F-4453-A4DD-4A5916D7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374-4521-4C0D-A2DB-861621E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7D4-9512-4FC3-AB73-5CDF0F8DD1F8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églalap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églalap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églalap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gyenes összekötő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gyenes összekötő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gyenes összekötő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gyenes összekötő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gyenes összekötő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gyenes összekötő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églalap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zi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zis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zi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zis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zis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333E-43D6-46A2-9B26-481D1BCC2299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874-4056-4075-BFE7-D1289B450C50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églalap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églalap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églalap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églalap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gyenes összekötő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gyenes összekötő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gyenes összekötő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gyenes összekötő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gyenes összekötő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églalap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zis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zis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zis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zis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zis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gyenes összekötő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A70-B5AA-414B-8F16-BE1FA97C8569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5E12-2C2F-407C-AFFA-D406F28C9279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gyenes összekötő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gyenes összekötő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gyenes összekötő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gyenes összekötő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églalap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gyenes összekötő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zis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3362-D085-4E86-9C80-EF96F2B1C057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gyenes összekötő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zis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gyenes összekötő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églalap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gyenes összekötő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gyenes összekötő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gyenes összekötő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7406-CE6C-4FA6-8BCF-4275C79AC22A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744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0000"/>
                </a:solidFill>
                <a:latin typeface="Century Schoolbook"/>
              </a:rPr>
              <a:t>COUNTRY REPORT -  SLOVAKIA</a:t>
            </a:r>
            <a:br>
              <a:rPr sz="4000"/>
            </a:br>
            <a:r>
              <a:rPr b="1" lang="sk-SK" sz="3600" spc="-1" strike="noStrike">
                <a:solidFill>
                  <a:srgbClr val="3333cc"/>
                </a:solidFill>
                <a:latin typeface="Century Schoolbook"/>
              </a:rPr>
              <a:t>MAY, 2008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Kép 3" descr="Picture8.png"/>
          <p:cNvPicPr/>
          <p:nvPr/>
        </p:nvPicPr>
        <p:blipFill>
          <a:blip r:embed="rId1"/>
          <a:stretch/>
        </p:blipFill>
        <p:spPr>
          <a:xfrm>
            <a:off x="4143240" y="3000240"/>
            <a:ext cx="2718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33cc"/>
                </a:solidFill>
                <a:latin typeface="Century Schoolbook"/>
              </a:rPr>
              <a:t>THANKS  FOR  YOUR  ATTENTION !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Tartalom helye 3" descr="Picture3.jpg"/>
          <p:cNvPicPr/>
          <p:nvPr/>
        </p:nvPicPr>
        <p:blipFill>
          <a:blip r:embed="rId1"/>
          <a:stretch/>
        </p:blipFill>
        <p:spPr>
          <a:xfrm>
            <a:off x="1214280" y="1928880"/>
            <a:ext cx="5691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2920" y="121428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attacs  of  government  against private   health  care sector now centered  to  private health  insurance foun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private  ambulatory  care  and primary care  is  still  discriminate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state owned university hospitals                               are favoris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In private sector 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new  model of negotiation with insurance founds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based on mandates for  negotiation  for president of APF S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now 2400 physicians  inclu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our incomes is higher to 20%, as last year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n primary care :   capitation fee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                            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+  fee for  service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fee for  service :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CG                                                                                   home visits                                                       immunisa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occult bleeding test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n  medical  specialists ambulatory care :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fee for  service , with  strong  limitation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premisation :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drug  budget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lab tests budge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SO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 :       1.  GP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very two years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up 40   ECG  ,  man : up to  50  PSA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new :  HP test in 18. year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munisation against  pneumococcu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 :                                                           2 . primary care  pediatr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xtra fee for  preventive activities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high range of  examina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high  range  of  immunisation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Preventive  Care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3.  gynecology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screening of  ca  cervicis uteri :                                     23 -64 year old,  every year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screening of  ca  mammae :                                      40 – 69 yer old  ,  every two year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:    4.  stomatology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very yea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f  citizen do not take part 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next year </a:t>
            </a:r>
            <a:r>
              <a:rPr b="1" lang="en-GB" sz="3000" spc="-1" strike="noStrike">
                <a:solidFill>
                  <a:srgbClr val="3333cc"/>
                </a:solidFill>
                <a:latin typeface="Century Schoolbook"/>
              </a:rPr>
              <a:t>the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stomatology care is no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cover</a:t>
            </a:r>
            <a:r>
              <a:rPr b="1" lang="en-GB" sz="3000" spc="-1" strike="noStrike">
                <a:solidFill>
                  <a:srgbClr val="3333cc"/>
                </a:solidFill>
                <a:latin typeface="Century Schoolbook"/>
              </a:rPr>
              <a:t>ed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by basic insurance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19:40Z</dcterms:created>
  <dc:creator>magnet</dc:creator>
  <dc:description/>
  <dc:language>en-US</dc:language>
  <cp:lastModifiedBy>Brigitte Ruppitsch</cp:lastModifiedBy>
  <dcterms:modified xsi:type="dcterms:W3CDTF">2008-05-26T10:55:41Z</dcterms:modified>
  <cp:revision>10</cp:revision>
  <dc:subject/>
  <dc:title>Country report -  Slovakia May, 2008</dc:title>
</cp:coreProperties>
</file>